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00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2880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16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500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2880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7093-DDE2-4E6F-B80E-4C43FE61A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F452-F757-4608-9EE3-258A350E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77A9-E96F-4DEB-9E63-5BFDC06B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1B2F-ECC9-42AF-9F17-4E624923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F7E8-942B-4BB8-9A42-EA5E373A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6337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8B77-842F-45A6-A9E9-E624100D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C719-E249-4A49-8101-CEB6C835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6865-4004-4F8B-99D6-0EC7ABF6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DC27-068A-4B76-A55B-F0DD83FE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1BD9-5E4F-464E-93E9-26C0FDFC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9E28-E19E-496B-92CD-B409E2A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0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880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716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0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2880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4C2E-6E26-4112-8C89-8A35AAA2C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6337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663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4360" y="1557000"/>
            <a:ext cx="5051520" cy="338436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24360" y="4941720"/>
            <a:ext cx="5051520" cy="86364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EE8A-0C62-4682-B138-CB253ED1B5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2771280" y="6244920"/>
            <a:ext cx="17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B83D-5488-417F-BC82-EA859B902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0" t="0" r="124" b="-301"/>
          <a:stretch/>
        </p:blipFill>
        <p:spPr>
          <a:xfrm>
            <a:off x="4643280" y="6081840"/>
            <a:ext cx="450072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24000" y="1412640"/>
            <a:ext cx="5040360" cy="216036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MM-Based Multimodal Biometric 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24360" y="3573000"/>
            <a:ext cx="2519280" cy="251964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Yannis Stylia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Yannis Pantaz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lipe Calder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dro Lar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00720" y="3573360"/>
            <a:ext cx="2843280" cy="259236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nçois Seve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scha Schim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lando B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derico M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hanasiosValsama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Biometric Modalities: Fac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525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Eigenfac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eigenfa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new users / images: computationally expa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no modification for verification /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eigenfa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new users / new images: only recompute individual eigen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erification system: as fast as comm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dentification system: operations proportional to number of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26333" b="0"/>
          <a:stretch/>
        </p:blipFill>
        <p:spPr>
          <a:xfrm>
            <a:off x="6156360" y="4076640"/>
            <a:ext cx="2806560" cy="251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26132" b="0"/>
          <a:stretch/>
        </p:blipFill>
        <p:spPr>
          <a:xfrm>
            <a:off x="6156360" y="1268280"/>
            <a:ext cx="280656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0E17-8A7B-4BBE-8A1B-6013A0976C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91274-DD17-4A64-A6E8-A7B2ED13F3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Biometric Modalities: Fac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M based model for each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log-likelihood between 10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5C89-7024-44F6-9C1A-9FFFE5D727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07906-72F3-4D50-B6AC-9C6DFE7780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usion (I)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Level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79D2-6558-459A-B745-7CD99A13A4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1EB6D-5103-4720-BBB1-62164856DC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usion (II) 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Matching Modul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Mixtu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scores =&gt; lik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Decision Modul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C57C-F6A1-4189-8898-A6EA47ED62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B71BE-CDB1-47B3-9D85-41FFAF73F0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F41D-4832-45E2-95F1-D1BC55F354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05D4F-F6C9-479B-99BC-1991A4C6D0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8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Multimodal Multilingual Biometric Databas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The database is composed of: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deo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which generat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ill pi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ftware (scrip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f6456"/>
                </a:solidFill>
                <a:latin typeface="Arial"/>
              </a:rPr>
              <a:t>47 users / 1663 signatures / 351 videos</a:t>
            </a: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108240" y="3497400"/>
            <a:ext cx="2070360" cy="511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16280" y="4164120"/>
            <a:ext cx="814680" cy="109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256440" y="2244600"/>
            <a:ext cx="243828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2108-D76C-4E3B-859E-1AE65DCD0C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3A0E9-7438-47C1-A185-34ED98458B63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8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Signature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9232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Signature files are composed of comma separated integer values, with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,Y,pressure,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Capturing Device: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com "Graphire3 4x5" digitizer tablet. Sensing surface 127.6mm x 92.8mm. Spatial reolution is 2032 lpi (lines per inch). 512 different pressure levels. Sampling rate is about 1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09C2-6BA9-485B-A0FF-035979B94F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A954E-912B-4E0B-95B4-A61258EFFE1D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8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Video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9232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The videos provide audio and still pictures.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fter automated postprocessing with perl and mp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Videos: uncompressed UYVY AVI 640 x 480, 15.00 fp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Audio: uncompressed 16bit PCM audio; mono, 32000Hz little endian.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ACD1-F81D-4DDF-A76D-35F22CB624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BD241-A7C5-4D1F-9F95-25F8F6F9F75B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8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Controversy &amp; Issue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9232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f6456"/>
                </a:solidFill>
                <a:latin typeface="Arial"/>
              </a:rPr>
              <a:t>Filesystem based or DB engine based (speed vs. transparency)</a:t>
            </a:r>
            <a:endParaRPr b="0" lang="en-US" sz="24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f6456"/>
                </a:solidFill>
                <a:latin typeface="Arial"/>
              </a:rPr>
              <a:t>Raw video for better image quality or compressed video: (</a:t>
            </a:r>
            <a:r>
              <a:rPr b="0" lang="en-GB" sz="2200" spc="-1" strike="noStrike">
                <a:solidFill>
                  <a:srgbClr val="2f6456"/>
                </a:solidFill>
                <a:latin typeface="Arial"/>
              </a:rPr>
              <a:t>Octave/Matlab compatibilty, DB size...)</a:t>
            </a:r>
            <a:endParaRPr b="0" lang="en-US" sz="22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f6456"/>
                </a:solidFill>
                <a:latin typeface="Arial"/>
              </a:rPr>
              <a:t>At some point, some users weren't willing to provide real signatures (also hypothetical legal / psychological issues were raised), we had to rebuild the signature DB at one week from the end with fakes.</a:t>
            </a:r>
            <a:endParaRPr b="0" lang="en-US" sz="22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f6456"/>
                </a:solidFill>
                <a:latin typeface="Arial"/>
              </a:rPr>
              <a:t>Distribution of a &gt;100 Gb database ?  -&gt; compressed videos</a:t>
            </a:r>
            <a:endParaRPr b="0" lang="en-US" sz="22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AC0D-68E8-4833-9A63-9AB0CB8C87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DD2EF-A9E0-4110-BD77-43FB65D7B9B2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8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9232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Matlab is very limited with video codecs 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Bugs in postprocessing softwar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Raw video is HUG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Size constraints: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 with raw video &amp; raw audio: 108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 with mpeg2 video &amp; raw audio: 1.8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f6456"/>
                </a:solidFill>
                <a:latin typeface="Arial"/>
              </a:rPr>
              <a:t>47 users / 1663 signatures / 351 videos</a:t>
            </a: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CF57-568A-4469-9EA7-23CF494D5D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2FC4D-A699-4643-82D0-371DEEB9CFC1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628640"/>
            <a:ext cx="720072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Introduction to Biometric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Biometric Modaliti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Fus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Multimodal Databas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6A65-AE22-4E26-BA76-A0C66B43E2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5E839-CD73-455C-869C-FFB9497611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onstitution of a multimodal database 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(thank you all </a:t>
            </a:r>
            <a:r>
              <a:rPr b="0" lang="en-US" sz="2800" spc="-1" strike="noStrike">
                <a:solidFill>
                  <a:srgbClr val="2f6456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User verification: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- satisfactory results (EER)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- EER decreases if fusion of two 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modalities (voice + signature, face + 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ignature …) - lowest if all modalities 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are used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irst time GMM approach is used: encouraging result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FBE7-BCDB-42B8-8DB7-1A76463E19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22CD9-0643-4137-A1F3-F09ADE3D72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2f6456"/>
                </a:solidFill>
                <a:latin typeface="Arial"/>
              </a:rPr>
              <a:t>FUTURE WORK ?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9840" y="1700280"/>
            <a:ext cx="8066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User verification: make EER = 0  </a:t>
            </a:r>
            <a:r>
              <a:rPr b="0" lang="en-US" sz="2800" spc="-1" strike="noStrike">
                <a:solidFill>
                  <a:srgbClr val="2f645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User identification: to be developed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Enlarge database (at the moment: 47 people)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Use other features for signature authentification (currently: (x,y) coordinates ...)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orgery: build a falsified signatures database to test the robustness of the system. 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-&gt; A signature simulator was created: signatures are reproduced in movies, at different speeds, to help the imitator.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D90D-1C9A-414B-A798-8FC028F70E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65CB1-B034-4B34-84A7-C2FE25B148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360" y="2997360"/>
            <a:ext cx="6337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  <a:ea typeface="Arial"/>
              </a:rPr>
              <a:t>¿</a:t>
            </a:r>
            <a:r>
              <a:rPr b="1" lang="fr-BE" sz="3600" spc="-1" strike="noStrike">
                <a:solidFill>
                  <a:srgbClr val="2f6456"/>
                </a:solidFill>
                <a:latin typeface="Arial"/>
              </a:rPr>
              <a:t> QUESTIONS ?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D178-9880-4220-BD8B-5667728FF8C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44CA4-E98E-4D1E-AFF2-798CF00064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Introduction to Biometric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A3AB-AB8C-45A4-A629-1ED3019253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D0EC2-BC8A-4DCD-BACD-FB2B8B9F04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6456"/>
                </a:solidFill>
                <a:latin typeface="Arial"/>
              </a:rPr>
              <a:t>Biometric Modalities: Speech</a:t>
            </a:r>
            <a:endParaRPr b="1" lang="en-US" sz="32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C3A5-87F4-44F1-BE17-E21CB457C4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A1111-A9F4-4CCF-900E-99D50A836A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6456"/>
                </a:solidFill>
                <a:latin typeface="Arial"/>
              </a:rPr>
              <a:t>Biometric Modalities: Signature</a:t>
            </a:r>
            <a:endParaRPr b="1" lang="en-US" sz="32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8F32-714E-41AA-ADA5-25930C04A2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EBD33-412F-44F8-A31D-0A61308F86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Biometric Modalities: Fac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ace recognition into a verification System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ation and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5D15-B22C-4D88-BB78-DF4D60946C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D8BC8-25A0-491F-B832-2ED3988910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Biometric Modalities: Fac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ace detection and segmentat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scenario: single user in front of the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CV face detector has an excelle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132000" y="3500280"/>
            <a:ext cx="3162600" cy="24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91E0-C2B9-4E2A-AB5C-E13242D7A0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9FF33-503A-4CF2-9EEA-C658B4D547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Biometric Modalities: Fac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ace normalizat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and size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ey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2170080" cy="2303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564000" y="3573360"/>
            <a:ext cx="2303280" cy="1108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0" t="5905" r="0" b="55849"/>
          <a:stretch/>
        </p:blipFill>
        <p:spPr>
          <a:xfrm>
            <a:off x="5796000" y="1341360"/>
            <a:ext cx="2311200" cy="936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60951" t="0" r="0" b="0"/>
          <a:stretch/>
        </p:blipFill>
        <p:spPr>
          <a:xfrm>
            <a:off x="7667640" y="3429000"/>
            <a:ext cx="1030320" cy="1444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rcRect l="0" t="0" r="64837" b="0"/>
          <a:stretch/>
        </p:blipFill>
        <p:spPr>
          <a:xfrm>
            <a:off x="6443640" y="3429000"/>
            <a:ext cx="928800" cy="1444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4000" y="5373720"/>
            <a:ext cx="28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6456"/>
                </a:solidFill>
                <a:latin typeface="Arial"/>
              </a:rPr>
              <a:t>Binarization, inversion and eye mask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4724280"/>
            <a:ext cx="24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6456"/>
                </a:solidFill>
                <a:latin typeface="Arial"/>
              </a:rPr>
              <a:t>Detecting and selecting clusters in the upper half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4795920"/>
            <a:ext cx="12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6456"/>
                </a:solidFill>
                <a:latin typeface="Arial"/>
              </a:rPr>
              <a:t>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5157720"/>
            <a:ext cx="26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6456"/>
                </a:solidFill>
                <a:latin typeface="Arial"/>
              </a:rPr>
              <a:t>Average of two images from the sam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4795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6456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rcRect l="0" t="52922" r="0" b="5905"/>
          <a:stretch/>
        </p:blipFill>
        <p:spPr>
          <a:xfrm>
            <a:off x="6516720" y="2205000"/>
            <a:ext cx="2311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B61B-F9D7-4FED-940B-EC0F62DD72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EE089-00C2-477B-B53D-E9A75ACE8F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f6456"/>
                </a:solidFill>
                <a:latin typeface="Arial"/>
              </a:rPr>
              <a:t>Biometric Modalities: Fac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eature extract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 transform over training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igen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riant &amp;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expansive &amp; data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3029040" cy="75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429264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6456"/>
                </a:solidFill>
                <a:latin typeface="Arial"/>
              </a:rPr>
              <a:t>Featur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229360"/>
            <a:ext cx="338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6456"/>
                </a:solidFill>
                <a:latin typeface="Arial"/>
              </a:rPr>
              <a:t>Eigenvectors of the training covariance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544500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6456"/>
                </a:solidFill>
                <a:latin typeface="Arial"/>
              </a:rPr>
              <a:t>Vectoriz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479736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6456"/>
                </a:solidFill>
                <a:latin typeface="Arial"/>
              </a:rPr>
              <a:t>Mean imag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48000" y="4292640"/>
            <a:ext cx="647640" cy="936720"/>
          </a:xfrm>
          <a:prstGeom prst="line">
            <a:avLst/>
          </a:prstGeom>
          <a:ln w="3168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484360" y="4220640"/>
            <a:ext cx="719280" cy="289080"/>
          </a:xfrm>
          <a:prstGeom prst="line">
            <a:avLst/>
          </a:prstGeom>
          <a:ln w="3168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932000" y="4365360"/>
            <a:ext cx="431640" cy="1150920"/>
          </a:xfrm>
          <a:prstGeom prst="line">
            <a:avLst/>
          </a:prstGeom>
          <a:ln w="3168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940000" y="4221000"/>
            <a:ext cx="576360" cy="503280"/>
          </a:xfrm>
          <a:prstGeom prst="line">
            <a:avLst/>
          </a:prstGeom>
          <a:ln w="3168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9540-B4AC-4F89-AA8E-515096D266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706C8-C2CD-4F9E-9C11-962B8BC7B5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8:02:33Z</dcterms:created>
  <dc:creator>Thierry Dutoit</dc:creator>
  <dc:description/>
  <dc:language>en-US</dc:language>
  <cp:lastModifiedBy>Administrator</cp:lastModifiedBy>
  <dcterms:modified xsi:type="dcterms:W3CDTF">2005-08-12T03:18:53Z</dcterms:modified>
  <cp:revision>37</cp:revision>
  <dc:subject/>
  <dc:title>Add title</dc:title>
</cp:coreProperties>
</file>